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DD6A84F-302B-47BA-BCCE-0A273BC962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CB457C-3314-46BA-BC3F-7F75888DC1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579BB31-D060-4A5E-A98E-57855C029F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23840" y="727200"/>
            <a:ext cx="4842000" cy="3632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9080" y="4600080"/>
            <a:ext cx="5050080" cy="42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9C79A7-E458-4AFB-B7BA-63BCAECA85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CADENA DE VA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E354087-5B98-434A-96D7-C6F9F3D9FD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09233A1-C3A6-4F12-A613-D4846C158B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CADENA DE VA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961E2B-F849-48A8-B6F2-728873FCA8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E0C5CA-A07B-44E8-9BD7-F20927C150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589C05-5FD8-425A-BFF2-C4872D69F3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9806D5-BD78-48F1-A867-726EA9F9D0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DC91917-E732-4F63-9999-CE52EBC503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Evaluación 360º vs Visión Compart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52B49BE-D73C-4870-B3AE-554126CF9D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Efici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409-FF76-48B1-BE47-B07057A3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DC3-E432-42E7-BEE5-513F6100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B24-9EDC-4361-B233-BD226D7A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C17-C71A-4F63-9354-D38B8C3D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4040-0D79-4172-A532-7E8EDCD7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93A6-C376-4508-982F-F9A2B956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73F6-F963-4314-9095-9E0A32BE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2E5A-1FB8-4D30-9FBB-6D335ABC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9BB1-35DD-4022-BBA1-3F6FC25C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6781-F15B-4730-AFC3-728E5260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C71B-D7C3-4DF8-9E01-71424D9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FBF-B4F3-4B5B-A343-CBED983C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D3C3-029C-42BB-92D3-5C60F066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CB1-3B47-4AA2-A1F1-952F9DE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3D2B-DDC6-469C-8E0B-DAF3E0BC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E5C0-FB7E-4EA8-9EB6-2E752571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AA30-1BFF-4745-B4C6-543A860D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3BA5E-1741-44BF-AFD1-D9A581A8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F7AC-9E43-4D00-B10E-230D17CC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2964-3ECF-4662-AAA7-82FDF506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E495-3BB9-475F-8661-D7464CC0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F4603-CD0B-4840-9D3C-8DFCB000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BC4-81E3-43A8-8975-CE98DA9B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E473-84D7-49E2-87D3-8D77460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30C1-945B-45DC-9AED-D3349D9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8F88-11D1-4D57-A97D-61F202A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F442-A8F7-4C83-90B1-98B8AB29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5D2B-9563-443A-9B80-1728EC04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6501-C3D0-4D06-9040-6B986517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3B801-06C6-4288-B0F8-4C9ECF10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D8EC-1018-4DD2-9DB2-D17DF172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6E9D-3C90-4622-9705-48DCF4E7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7FA2-C297-4082-87A3-3334C0ED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DEB-803C-47A9-82C4-C5271891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96922-B0CE-465D-ADC5-0F0FB774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CCDC4-815E-4A26-95EE-BEA42AB9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E6C9-9A1C-4BE8-AEC6-DD05D03A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F6B3-303F-4698-8C3C-F1A4494C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C615-0C1C-495E-B9D5-24660019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E6A2-C46D-4EC2-8B3D-9FF91E09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0D29-6454-4F5D-9F7A-C055BB9D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6EFD3-D06A-4F5C-B9B8-6126C8A4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A6773-D480-48DF-9996-37CBAAF3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7C6-FDEB-4786-A1AC-B496C255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9CA-E1D2-401A-B87F-8AE16FE4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4E0-33C4-4B16-AEB1-F11A04B0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039-4309-4384-92FF-C2A8091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9C6-4010-4EF8-9FCC-1043A74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4402-7BEE-4F37-A74C-5E670F3C7F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Dr. Roberto Maz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90E2-0D1E-45DA-B83A-DA40CEFC4BB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88" name="Arc 2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Arc 3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ED1C-7365-4C47-92B3-3847D5DD57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Dr. Roberto Maz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B1D8-CFD5-4AA8-B8EC-BF27B7EA02E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81FE-7017-4325-B76A-9F6AAEF157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762120" y="5425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Dr. Roberto César Maz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0" y="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800" spc="-1" strike="noStrike">
                <a:solidFill>
                  <a:srgbClr val="2c4889"/>
                </a:solidFill>
                <a:latin typeface="Tahoma"/>
              </a:rPr>
              <a:t>TALEN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50012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800" spc="-1" strike="noStrike">
                <a:solidFill>
                  <a:srgbClr val="2c4889"/>
                </a:solidFill>
                <a:latin typeface="Tahoma"/>
              </a:rPr>
              <a:t>¿Cómo retener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1025"/>
          <p:cNvGraphicFramePr/>
          <p:nvPr/>
        </p:nvGraphicFramePr>
        <p:xfrm>
          <a:off x="3357720" y="1143000"/>
          <a:ext cx="274608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0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7720" y="1143000"/>
                    <a:ext cx="274608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6E70-C9B2-49A2-A5F7-A3A3739E716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3399"/>
                </a:solidFill>
                <a:latin typeface="Tahoma"/>
                <a:ea typeface="Tahoma"/>
              </a:rPr>
              <a:t>Perfi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00080" y="1214280"/>
          <a:ext cx="7453440" cy="5156280"/>
        </p:xfrm>
        <a:graphic>
          <a:graphicData uri="http://schemas.openxmlformats.org/drawingml/2006/table">
            <a:tbl>
              <a:tblPr/>
              <a:tblGrid>
                <a:gridCol w="3786120"/>
                <a:gridCol w="3667320"/>
              </a:tblGrid>
              <a:tr h="211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ADICIONALIS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dad: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mayores de 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rientación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respeto por la autoridad y sacrificio. El trabajo debe ser es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iempo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pas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ffffff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dad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entre 43 y 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rientación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es importante el crecimiento personal dentro del compromi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iempo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pres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fffff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</a:tcPr>
                </a:tc>
              </a:tr>
              <a:tr h="30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NERACIÓN “X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dad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entre 28 y 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rientación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creen en la independencia, la flexibilidad, son multitareas y tecnológ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iempo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fut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5050"/>
                        </a:gs>
                        <a:gs pos="50000">
                          <a:srgbClr val="ffffff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NERACIÓN “Y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dad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menores de 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rientación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intuición, desapego por lo establecido, quieren ser escuchados, independientes y supertecnológicos. Respetan la autoridad competente y quieren balance trabajo-vida prop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iempo</a:t>
                      </a: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: sin ti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50000">
                          <a:srgbClr val="ffffff"/>
                        </a:gs>
                        <a:gs pos="100000">
                          <a:srgbClr val="99ff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0"/>
            <a:ext cx="464832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6666ff"/>
                </a:solidFill>
                <a:latin typeface="Tahoma"/>
                <a:ea typeface="Tahoma"/>
              </a:rPr>
              <a:t>Algunos datos estadísticos mundiales</a:t>
            </a:r>
            <a:br>
              <a:rPr sz="1800"/>
            </a:br>
            <a:r>
              <a:rPr b="1" lang="es-AR" sz="2400" spc="-1" strike="noStrike">
                <a:solidFill>
                  <a:srgbClr val="6666ff"/>
                </a:solidFill>
                <a:latin typeface="Tahoma"/>
                <a:ea typeface="Tahoma"/>
              </a:rPr>
              <a:t>(Hay Group: 1.000.000 empleados en 330 empres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5840" y="1714320"/>
            <a:ext cx="8534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n un par de años 1 de cada 3 empleados abandonará la empre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l deseo de irse es el doble que hace 2 décad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ausas: pobre desarrollo, mal liderazgo, escasa oportunidad de desarrollo, poca posibilidad de aprender algo nuevo, y por último el suel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Quienes abandonarán la empresa en el corto plaz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66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Ventas (38%), luego adminsitrativos y tecnolog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66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Gerentes (11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Menor compromiso cuando menos instruido es el empleado o menor rango ti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Dr. Roberto Mazz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F00B-9949-4AA8-BC21-7D56676232D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3399"/>
                </a:solidFill>
                <a:latin typeface="Tahoma"/>
                <a:ea typeface="Tahoma"/>
              </a:rPr>
              <a:t>Causas de Ro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0040" y="1481040"/>
          <a:ext cx="7696080" cy="4853160"/>
        </p:xfrm>
        <a:graphic>
          <a:graphicData uri="http://schemas.openxmlformats.org/drawingml/2006/table">
            <a:tbl>
              <a:tblPr/>
              <a:tblGrid>
                <a:gridCol w="3790800"/>
                <a:gridCol w="390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enómenos Inter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cb800"/>
                        </a:gs>
                        <a:gs pos="50000">
                          <a:srgbClr val="ffff00"/>
                        </a:gs>
                        <a:gs pos="100000">
                          <a:srgbClr val="bcb8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enómenos Exter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cb800"/>
                        </a:gs>
                        <a:gs pos="50000">
                          <a:srgbClr val="ffff00"/>
                        </a:gs>
                        <a:gs pos="100000">
                          <a:srgbClr val="bcb800"/>
                        </a:gs>
                      </a:gsLst>
                      <a:lin ang="5400000"/>
                    </a:gradFill>
                  </a:tcPr>
                </a:tc>
              </a:tr>
              <a:tr h="43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ítica de beneficios socia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ipo de supervi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los de lideraz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ortunidad de progre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ipo de relaciones entre compañer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diciones físicas del ambie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li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ltura organizac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ítica de reclutami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lta de capaci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ítica disciplin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iterios de evaluación de desempeñ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ítica sala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tuación de Oferta y Demanda de Recursos Humanos en el Merc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tuación Económ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ortunidades de Emple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Dr. Roberto Mazz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D390-038E-4F42-BE16-97448CD2E14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464832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399"/>
                </a:solidFill>
                <a:latin typeface="Tahoma"/>
                <a:ea typeface="Tahoma"/>
              </a:rPr>
              <a:t>Costo de la Rotación de Pers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Calibri"/>
              </a:rPr>
              <a:t>Costos Primarios:</a:t>
            </a: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 gastos direct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Costo de reclutamiento y selec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Costo de entrenamiento y ambienta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Costo de indemniza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Calibri"/>
              </a:rPr>
              <a:t>Costos Secundarios:</a:t>
            </a: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 efectos colater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Efectos en la produc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Efectos en el rendimiento del rest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Horas extras, mayor costo de producció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Capacidad ociosa, mayores error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Mayores accident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Calibri"/>
              </a:rPr>
              <a:t>Costos Terciarios:</a:t>
            </a: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 efectos colaterales a L.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Pérdida de negoci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alibri"/>
              </a:rPr>
              <a:t>Pérdida de mercad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Dr. Roberto Mazz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5CAF-0BDA-4008-A868-73B35D5DF89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3399"/>
                </a:solidFill>
                <a:latin typeface="Tahoma"/>
                <a:ea typeface="Tahoma"/>
              </a:rPr>
              <a:t>Políticas y Resultados</a:t>
            </a:r>
            <a:br>
              <a:rPr sz="4400"/>
            </a:br>
            <a:r>
              <a:rPr b="0" lang="es-AR" sz="1600" spc="-1" strike="noStrike">
                <a:solidFill>
                  <a:srgbClr val="003399"/>
                </a:solidFill>
                <a:latin typeface="Comic Sans MS"/>
              </a:rPr>
              <a:t>Cuadro de Mando de RRHH – Becker-Huselid-Ulri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28760" y="1486080"/>
          <a:ext cx="7696080" cy="4657680"/>
        </p:xfrm>
        <a:graphic>
          <a:graphicData uri="http://schemas.openxmlformats.org/drawingml/2006/table">
            <a:tbl>
              <a:tblPr/>
              <a:tblGrid>
                <a:gridCol w="3790800"/>
                <a:gridCol w="390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olític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cb800"/>
                        </a:gs>
                        <a:gs pos="50000">
                          <a:srgbClr val="ffff00"/>
                        </a:gs>
                        <a:gs pos="100000">
                          <a:srgbClr val="bcb8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cb800"/>
                        </a:gs>
                        <a:gs pos="50000">
                          <a:srgbClr val="ffff00"/>
                        </a:gs>
                        <a:gs pos="100000">
                          <a:srgbClr val="bcb800"/>
                        </a:gs>
                      </a:gsLst>
                      <a:lin ang="5400000"/>
                    </a:gradFill>
                  </a:tcPr>
                </a:tc>
              </a:tr>
              <a:tr h="41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Nº de candidatos calificados por pues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% contratado en base a un t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% de puestos por reclutamiento inter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% de trabajadores dentro de plan de desarrol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Nº de horas de capaci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Nº de trabajadores con remuneración vari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Nº de trabajadores con evaluación de desempeñ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Nº de empleados trabajando en equipos autogestiona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rategia de la empresa bien entendi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abajador comprende su contribución al éxito de la empre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abajadores con visión de futur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 sienten como agentes de camb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rectivos comprometidos con compartir el conocimi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los de comunicación participativ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nor ro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1f497d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yor ven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3116-A7EC-4F34-8FB1-F08793C448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000" spc="-1" strike="noStrike">
                <a:solidFill>
                  <a:srgbClr val="003399"/>
                </a:solidFill>
                <a:latin typeface="Comic Sans MS"/>
              </a:rPr>
              <a:t>Algunas maneras de ser atractivo...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714840" y="2214720"/>
            <a:ext cx="492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9933"/>
                </a:solidFill>
                <a:latin typeface="Tahoma"/>
                <a:ea typeface="Tahoma"/>
              </a:rPr>
              <a:t>Canale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9933"/>
                </a:solidFill>
                <a:latin typeface="Tahoma"/>
                <a:ea typeface="Tahoma"/>
              </a:rPr>
              <a:t>Planes de car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9933"/>
                </a:solidFill>
                <a:latin typeface="Tahoma"/>
                <a:ea typeface="Tahoma"/>
              </a:rPr>
              <a:t>Cuadros de reem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9933"/>
                </a:solidFill>
                <a:latin typeface="Tahoma"/>
                <a:ea typeface="Tahoma"/>
              </a:rPr>
              <a:t>Planes de moti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9933"/>
                </a:solidFill>
                <a:latin typeface="Tahoma"/>
                <a:ea typeface="Tahoma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9933"/>
                </a:solidFill>
                <a:latin typeface="Tahoma"/>
                <a:ea typeface="Tahoma"/>
              </a:rPr>
              <a:t>Incentivos económicos y no econó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5" descr="BS02064_"/>
          <p:cNvPicPr/>
          <p:nvPr/>
        </p:nvPicPr>
        <p:blipFill>
          <a:blip r:embed="rId1"/>
          <a:stretch/>
        </p:blipFill>
        <p:spPr>
          <a:xfrm>
            <a:off x="357120" y="2428920"/>
            <a:ext cx="28958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9EB9-D958-4414-B644-208482C334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464832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6666ff"/>
                </a:solidFill>
                <a:latin typeface="Tahoma"/>
                <a:ea typeface="Tahoma"/>
              </a:rPr>
              <a:t>Canales de Comunicació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2060"/>
                </a:solidFill>
                <a:latin typeface="Tahoma"/>
                <a:ea typeface="Tahoma"/>
              </a:rPr>
              <a:t>Pueden ser formales o inf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2060"/>
                </a:solidFill>
                <a:latin typeface="Tahoma"/>
                <a:ea typeface="Tahoma"/>
              </a:rPr>
              <a:t>El liderazgo es un buen veh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2060"/>
                </a:solidFill>
                <a:latin typeface="Tahoma"/>
                <a:ea typeface="Tahoma"/>
              </a:rPr>
              <a:t>Encuestas de c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  <a:ea typeface="Tahoma"/>
              </a:rPr>
              <a:t>Comunicación sobre las políticas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  <a:ea typeface="Tahoma"/>
              </a:rPr>
              <a:t>Mejora el clim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A585-604A-46B0-B7B6-E6BD0538FC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464832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339933"/>
                </a:solidFill>
                <a:latin typeface="Tahoma"/>
                <a:ea typeface="Tahoma"/>
              </a:rPr>
              <a:t>Planes de Carrer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ahoma"/>
                <a:ea typeface="Tahoma"/>
              </a:rPr>
              <a:t>Desarrollo profesional: implica una determinada estruc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ahoma"/>
                <a:ea typeface="Tahoma"/>
              </a:rPr>
              <a:t>Para ejecutivos valios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ahoma"/>
                <a:ea typeface="Tahoma"/>
              </a:rPr>
              <a:t>Herramienta de motiv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ahoma"/>
                <a:ea typeface="Tahoma"/>
              </a:rPr>
              <a:t>Esto implica una rotación futura  dentro o fuera del país y procesos formales de capacit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ahoma"/>
                <a:ea typeface="Tahoma"/>
              </a:rPr>
              <a:t>El empleado debe participar activame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ahoma"/>
                <a:ea typeface="Tahoma"/>
              </a:rPr>
              <a:t>Job Pos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Tahoma"/>
                <a:ea typeface="Tahoma"/>
              </a:rPr>
              <a:t>Plan de Jóvenes Profesion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0"/>
                            </p:stCondLst>
                            <p:childTnLst>
                              <p:par>
                                <p:cTn id="4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0000"/>
                            </p:stCondLst>
                            <p:childTnLst>
                              <p:par>
                                <p:cTn id="4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7A3-63D8-4103-92C8-39C7ECBD1D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464832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ff9900"/>
                </a:solidFill>
                <a:latin typeface="Tahoma"/>
                <a:ea typeface="Tahoma"/>
              </a:rPr>
              <a:t>Cuadros de Reemplazo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Back up para puestos cla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No se puede esperar demasi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Puede haber más de un cuadro de reemplazo por pues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Cada puesto tiene un inventario de competen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Implica un ritmo de espera para ocuparlos (ansie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  <a:ea typeface="Tahoma"/>
              </a:rPr>
              <a:t>Pueden ocupar puestos que no estén en la misma lín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0E66-BB64-426E-91C6-05E0B30CE1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464832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6666ff"/>
                </a:solidFill>
                <a:latin typeface="Tahoma"/>
                <a:ea typeface="Tahoma"/>
              </a:rPr>
              <a:t>Programas de Motivació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00016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No se puede motivar gente sin vo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Dirección por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A medida de la necesidad de cad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  <a:ea typeface="Tahoma"/>
              </a:rPr>
              <a:t>Participarlo en la dirección de proyectos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  <a:ea typeface="Tahoma"/>
              </a:rPr>
              <a:t>Reconocer los logros de su particip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  <a:ea typeface="Tahoma"/>
              </a:rPr>
              <a:t>Otorgarle premios o símbolos jerárquicos (oficina, membresías,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Trabajo y de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Técnica de la pal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Reconocimiento de los resultados (ej. Compañía 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Grado de avance y pro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ahoma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0993-B060-487E-84D4-55E30F1806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1028"/>
          <p:cNvSpPr/>
          <p:nvPr/>
        </p:nvSpPr>
        <p:spPr>
          <a:xfrm>
            <a:off x="0" y="285840"/>
            <a:ext cx="89154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772400" cy="4786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es-AR" sz="4600" spc="-1" strike="noStrike">
                <a:solidFill>
                  <a:srgbClr val="339933"/>
                </a:solidFill>
                <a:latin typeface="Comic Sans MS"/>
              </a:rPr>
              <a:t>Es un conjunto de destrezas sobresalientes respecto de un grupo para realizar una tarea, en un ámbito propicio para su desarrollo (cultura)</a:t>
            </a:r>
            <a:endParaRPr b="0" i="1" lang="en-US" sz="4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3" name="AutoShape 1029"/>
          <p:cNvSpPr/>
          <p:nvPr/>
        </p:nvSpPr>
        <p:spPr>
          <a:xfrm>
            <a:off x="500040" y="785880"/>
            <a:ext cx="8001000" cy="52862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6 Marcador de pie de página"/>
          <p:cNvSpPr/>
          <p:nvPr/>
        </p:nvSpPr>
        <p:spPr>
          <a:xfrm>
            <a:off x="785880" y="6200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8BF-F768-4D57-962D-4BCD5C04E9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0" y="0"/>
            <a:ext cx="464832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339933"/>
                </a:solidFill>
                <a:latin typeface="Tahoma"/>
                <a:ea typeface="Tahoma"/>
              </a:rPr>
              <a:t>Capacitació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La motivación es proporcional a la capacidad que tenga la persona para logr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Es una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Es una forma de re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  <a:ea typeface="Tahoma"/>
              </a:rPr>
              <a:t>Pueden 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Cursos dentro o fuera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Tall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9760" indent="-60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  <a:ea typeface="Tahoma"/>
              </a:rPr>
              <a:t>Pos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BC91-D7F4-4B57-AA22-97CC8E4783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464832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400" spc="-1" strike="noStrike">
                <a:solidFill>
                  <a:srgbClr val="ff9900"/>
                </a:solidFill>
                <a:latin typeface="Tahoma"/>
                <a:ea typeface="Tahoma"/>
              </a:rPr>
              <a:t>Incentivos Económicos o no Económicos</a:t>
            </a:r>
            <a:endParaRPr b="0" i="1" lang="en-US" sz="3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ahoma"/>
                <a:ea typeface="Tahoma"/>
              </a:rPr>
              <a:t>Debe existir un sistema de retribución equita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ahoma"/>
                <a:ea typeface="Tahoma"/>
              </a:rPr>
              <a:t>Pueden ser retribuciones económicas no monetarias (clubes, reintegro de gastos, viajes, etc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ahoma"/>
                <a:ea typeface="Tahoma"/>
              </a:rPr>
              <a:t>Debe ser competitivo respecto del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ahoma"/>
                <a:ea typeface="Tahoma"/>
              </a:rPr>
              <a:t>En cualquiera de los casos representa un cos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ahoma"/>
                <a:ea typeface="Tahoma"/>
              </a:rPr>
              <a:t>Deben estar ligados el rendimiento (remuneración vari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ahoma"/>
                <a:ea typeface="Tahoma"/>
              </a:rPr>
              <a:t>Participación en los 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ahoma"/>
                <a:ea typeface="Tahoma"/>
              </a:rPr>
              <a:t>Premios o reconoci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ahoma"/>
                <a:ea typeface="Tahoma"/>
              </a:rPr>
              <a:t>Representación institucional ante organismos exter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Tahoma"/>
                <a:ea typeface="Tahoma"/>
              </a:rPr>
              <a:t>Hacerlo participar en decisiones centrales de la compañ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6000"/>
                            </p:stCondLst>
                            <p:childTnLst>
                              <p:par>
                                <p:cTn id="6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8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9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B39-FC4B-454D-A5D9-1FEBA5A5BC8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2286000"/>
            <a:ext cx="86868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52680" y="533160"/>
            <a:ext cx="5486400" cy="571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700" spc="-1" strike="noStrike">
                <a:solidFill>
                  <a:srgbClr val="ff0000"/>
                </a:solidFill>
                <a:latin typeface="Tahoma"/>
                <a:ea typeface="Tahoma"/>
              </a:rPr>
              <a:t>“</a:t>
            </a:r>
            <a:r>
              <a:rPr b="1" i="1" lang="es-AR" sz="4700" spc="-1" strike="noStrike">
                <a:solidFill>
                  <a:srgbClr val="ff0000"/>
                </a:solidFill>
                <a:latin typeface="Tahoma"/>
                <a:ea typeface="Tahoma"/>
              </a:rPr>
              <a:t>Muchos creen que el talento es cuestión de suerte, pero pocos saben que la suerte es cuestión de los talentosos”</a:t>
            </a:r>
            <a:endParaRPr b="0" i="1" lang="en-US" sz="47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127080" y="2362320"/>
            <a:ext cx="3580560" cy="3763080"/>
            <a:chOff x="127080" y="2362320"/>
            <a:chExt cx="3580560" cy="3763080"/>
          </a:xfrm>
        </p:grpSpPr>
        <p:sp>
          <p:nvSpPr>
            <p:cNvPr id="336" name="Freeform 5"/>
            <p:cNvSpPr/>
            <p:nvPr/>
          </p:nvSpPr>
          <p:spPr>
            <a:xfrm>
              <a:off x="2397600" y="5539680"/>
              <a:ext cx="101160" cy="1508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6"/>
            <p:cNvSpPr/>
            <p:nvPr/>
          </p:nvSpPr>
          <p:spPr>
            <a:xfrm>
              <a:off x="2539800" y="5302440"/>
              <a:ext cx="100800" cy="1389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7"/>
            <p:cNvSpPr/>
            <p:nvPr/>
          </p:nvSpPr>
          <p:spPr>
            <a:xfrm>
              <a:off x="2771280" y="5034240"/>
              <a:ext cx="100800" cy="1112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8"/>
            <p:cNvSpPr/>
            <p:nvPr/>
          </p:nvSpPr>
          <p:spPr>
            <a:xfrm>
              <a:off x="2291040" y="5806080"/>
              <a:ext cx="95040" cy="1447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Freeform 9"/>
            <p:cNvSpPr/>
            <p:nvPr/>
          </p:nvSpPr>
          <p:spPr>
            <a:xfrm>
              <a:off x="1932840" y="2522880"/>
              <a:ext cx="1345680" cy="76788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1919160" y="2703240"/>
              <a:ext cx="1359360" cy="542880"/>
            </a:xfrm>
            <a:prstGeom prst="pie">
              <a:avLst/>
            </a:prstGeom>
            <a:solidFill>
              <a:srgbClr val="5e7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11"/>
            <p:cNvSpPr/>
            <p:nvPr/>
          </p:nvSpPr>
          <p:spPr>
            <a:xfrm>
              <a:off x="1925280" y="2764080"/>
              <a:ext cx="1358640" cy="54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12"/>
            <p:cNvSpPr/>
            <p:nvPr/>
          </p:nvSpPr>
          <p:spPr>
            <a:xfrm>
              <a:off x="2277360" y="3213000"/>
              <a:ext cx="161280" cy="225360"/>
            </a:xfrm>
            <a:prstGeom prst="pie">
              <a:avLst/>
            </a:pr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13"/>
            <p:cNvSpPr/>
            <p:nvPr/>
          </p:nvSpPr>
          <p:spPr>
            <a:xfrm>
              <a:off x="1328400" y="4230360"/>
              <a:ext cx="238680" cy="521280"/>
            </a:xfrm>
            <a:prstGeom prst="pie">
              <a:avLst/>
            </a:pr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>
              <a:off x="978480" y="3403080"/>
              <a:ext cx="1407600" cy="813240"/>
            </a:xfrm>
            <a:prstGeom prst="pie">
              <a:avLst/>
            </a:pr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15"/>
            <p:cNvSpPr/>
            <p:nvPr/>
          </p:nvSpPr>
          <p:spPr>
            <a:xfrm>
              <a:off x="990360" y="3363480"/>
              <a:ext cx="1395720" cy="805680"/>
            </a:xfrm>
            <a:prstGeom prst="pie">
              <a:avLst/>
            </a:pr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16"/>
            <p:cNvSpPr/>
            <p:nvPr/>
          </p:nvSpPr>
          <p:spPr>
            <a:xfrm>
              <a:off x="978480" y="3448080"/>
              <a:ext cx="1403640" cy="80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17"/>
            <p:cNvSpPr/>
            <p:nvPr/>
          </p:nvSpPr>
          <p:spPr>
            <a:xfrm>
              <a:off x="1167120" y="4385160"/>
              <a:ext cx="663120" cy="1450440"/>
            </a:xfrm>
            <a:prstGeom prst="pie">
              <a:avLst/>
            </a:pr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18"/>
            <p:cNvSpPr/>
            <p:nvPr/>
          </p:nvSpPr>
          <p:spPr>
            <a:xfrm>
              <a:off x="1270080" y="5233680"/>
              <a:ext cx="547920" cy="664200"/>
            </a:xfrm>
            <a:prstGeom prst="pie">
              <a:avLst/>
            </a:pr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19"/>
            <p:cNvSpPr/>
            <p:nvPr/>
          </p:nvSpPr>
          <p:spPr>
            <a:xfrm>
              <a:off x="1198080" y="5235840"/>
              <a:ext cx="552240" cy="66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490320" y="5020200"/>
              <a:ext cx="909720" cy="952560"/>
            </a:xfrm>
            <a:prstGeom prst="pie">
              <a:avLst/>
            </a:pr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494280" y="4922280"/>
              <a:ext cx="695880" cy="1028880"/>
            </a:xfrm>
            <a:prstGeom prst="pie">
              <a:avLst/>
            </a:pr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22"/>
            <p:cNvSpPr/>
            <p:nvPr/>
          </p:nvSpPr>
          <p:spPr>
            <a:xfrm>
              <a:off x="270720" y="3185280"/>
              <a:ext cx="1644840" cy="2001600"/>
            </a:xfrm>
            <a:prstGeom prst="pie">
              <a:avLst/>
            </a:pr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23"/>
            <p:cNvSpPr/>
            <p:nvPr/>
          </p:nvSpPr>
          <p:spPr>
            <a:xfrm>
              <a:off x="381240" y="4922280"/>
              <a:ext cx="695880" cy="10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>
              <a:off x="830520" y="4286880"/>
              <a:ext cx="600840" cy="900000"/>
            </a:xfrm>
            <a:prstGeom prst="pie">
              <a:avLst/>
            </a:pr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25"/>
            <p:cNvSpPr/>
            <p:nvPr/>
          </p:nvSpPr>
          <p:spPr>
            <a:xfrm>
              <a:off x="908280" y="4326480"/>
              <a:ext cx="523080" cy="89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257040" y="3148200"/>
              <a:ext cx="904320" cy="1981800"/>
            </a:xfrm>
            <a:prstGeom prst="pie">
              <a:avLst/>
            </a:pr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>
              <a:off x="146160" y="3199320"/>
              <a:ext cx="903600" cy="18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912240" y="2534760"/>
              <a:ext cx="867240" cy="842760"/>
            </a:xfrm>
            <a:prstGeom prst="pie">
              <a:avLst/>
            </a:prstGeom>
            <a:solidFill>
              <a:srgbClr val="f23a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17000" y="2570040"/>
              <a:ext cx="516960" cy="816840"/>
            </a:xfrm>
            <a:prstGeom prst="pie">
              <a:avLst/>
            </a:pr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933840" y="2566080"/>
              <a:ext cx="516960" cy="81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1590840" y="3265920"/>
              <a:ext cx="420120" cy="2332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27080" y="3187440"/>
              <a:ext cx="1362600" cy="206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924120" y="3373920"/>
              <a:ext cx="1496880" cy="9208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2212920" y="3369960"/>
              <a:ext cx="216000" cy="121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338400" y="4816440"/>
              <a:ext cx="1114200" cy="12175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1371240" y="4381200"/>
              <a:ext cx="501480" cy="15346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1470240" y="4237920"/>
              <a:ext cx="132120" cy="7758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2257920" y="3173760"/>
              <a:ext cx="232920" cy="268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39"/>
            <p:cNvSpPr/>
            <p:nvPr/>
          </p:nvSpPr>
          <p:spPr>
            <a:xfrm>
              <a:off x="1893960" y="2470320"/>
              <a:ext cx="1434600" cy="88164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40"/>
            <p:cNvSpPr/>
            <p:nvPr/>
          </p:nvSpPr>
          <p:spPr>
            <a:xfrm>
              <a:off x="2432880" y="3246120"/>
              <a:ext cx="806760" cy="1015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41"/>
            <p:cNvSpPr/>
            <p:nvPr/>
          </p:nvSpPr>
          <p:spPr>
            <a:xfrm>
              <a:off x="918000" y="5964840"/>
              <a:ext cx="435600" cy="1605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42"/>
            <p:cNvSpPr/>
            <p:nvPr/>
          </p:nvSpPr>
          <p:spPr>
            <a:xfrm>
              <a:off x="1386720" y="5873040"/>
              <a:ext cx="416160" cy="1332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Freeform 43"/>
            <p:cNvSpPr/>
            <p:nvPr/>
          </p:nvSpPr>
          <p:spPr>
            <a:xfrm>
              <a:off x="1392480" y="3348000"/>
              <a:ext cx="6804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44"/>
            <p:cNvSpPr/>
            <p:nvPr/>
          </p:nvSpPr>
          <p:spPr>
            <a:xfrm>
              <a:off x="883080" y="2491560"/>
              <a:ext cx="942840" cy="9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Freeform 45"/>
            <p:cNvSpPr/>
            <p:nvPr/>
          </p:nvSpPr>
          <p:spPr>
            <a:xfrm>
              <a:off x="3251160" y="2362320"/>
              <a:ext cx="456480" cy="9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800" spc="-1" strike="noStrike">
                <a:solidFill>
                  <a:srgbClr val="2c4889"/>
                </a:solidFill>
                <a:latin typeface="Tahoma"/>
              </a:rPr>
              <a:t>Cómo se arma</a:t>
            </a:r>
            <a:endParaRPr b="0" i="1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6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4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5972-2BBD-405F-BEC8-C2337D4D9A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32 Diagrama" descr=""/>
          <p:cNvPicPr/>
          <p:nvPr/>
        </p:nvPicPr>
        <p:blipFill>
          <a:blip r:embed="rId1"/>
          <a:stretch/>
        </p:blipFill>
        <p:spPr>
          <a:xfrm>
            <a:off x="433440" y="2266920"/>
            <a:ext cx="1444680" cy="3537000"/>
          </a:xfrm>
          <a:prstGeom prst="rect">
            <a:avLst/>
          </a:prstGeom>
          <a:ln w="0">
            <a:noFill/>
          </a:ln>
        </p:spPr>
      </p:pic>
      <p:pic>
        <p:nvPicPr>
          <p:cNvPr id="199" name="34 Diagrama" descr=""/>
          <p:cNvPicPr/>
          <p:nvPr/>
        </p:nvPicPr>
        <p:blipFill>
          <a:blip r:embed="rId2"/>
          <a:stretch/>
        </p:blipFill>
        <p:spPr>
          <a:xfrm>
            <a:off x="3913200" y="2279520"/>
            <a:ext cx="1463760" cy="3511800"/>
          </a:xfrm>
          <a:prstGeom prst="rect">
            <a:avLst/>
          </a:prstGeom>
          <a:ln w="0">
            <a:noFill/>
          </a:ln>
        </p:spPr>
      </p:pic>
      <p:pic>
        <p:nvPicPr>
          <p:cNvPr id="200" name="33 Diagrama" descr=""/>
          <p:cNvPicPr/>
          <p:nvPr/>
        </p:nvPicPr>
        <p:blipFill>
          <a:blip r:embed="rId3"/>
          <a:stretch/>
        </p:blipFill>
        <p:spPr>
          <a:xfrm>
            <a:off x="2193840" y="2279520"/>
            <a:ext cx="1470240" cy="3524400"/>
          </a:xfrm>
          <a:prstGeom prst="rect">
            <a:avLst/>
          </a:prstGeom>
          <a:ln w="0">
            <a:noFill/>
          </a:ln>
        </p:spPr>
      </p:pic>
      <p:pic>
        <p:nvPicPr>
          <p:cNvPr id="201" name="35 Diagrama" descr=""/>
          <p:cNvPicPr/>
          <p:nvPr/>
        </p:nvPicPr>
        <p:blipFill>
          <a:blip r:embed="rId4"/>
          <a:stretch/>
        </p:blipFill>
        <p:spPr>
          <a:xfrm>
            <a:off x="5553000" y="2266920"/>
            <a:ext cx="1463760" cy="3537000"/>
          </a:xfrm>
          <a:prstGeom prst="rect">
            <a:avLst/>
          </a:prstGeom>
          <a:ln w="0">
            <a:noFill/>
          </a:ln>
        </p:spPr>
      </p:pic>
      <p:pic>
        <p:nvPicPr>
          <p:cNvPr id="202" name="36 Diagrama" descr=""/>
          <p:cNvPicPr/>
          <p:nvPr/>
        </p:nvPicPr>
        <p:blipFill>
          <a:blip r:embed="rId5"/>
          <a:stretch/>
        </p:blipFill>
        <p:spPr>
          <a:xfrm>
            <a:off x="7338960" y="2266920"/>
            <a:ext cx="14637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8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5600-026E-451C-AB96-264CF61A1B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336699"/>
                </a:solidFill>
                <a:latin typeface="Tahoma"/>
                <a:ea typeface="Tahoma"/>
              </a:rPr>
              <a:t>Competencia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06" name="Picture 3" descr="BS00554_"/>
          <p:cNvPicPr/>
          <p:nvPr/>
        </p:nvPicPr>
        <p:blipFill>
          <a:blip r:embed="rId1"/>
          <a:stretch/>
        </p:blipFill>
        <p:spPr>
          <a:xfrm>
            <a:off x="684360" y="2708280"/>
            <a:ext cx="180000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Object 4"/>
          <p:cNvGraphicFramePr/>
          <p:nvPr/>
        </p:nvGraphicFramePr>
        <p:xfrm>
          <a:off x="6084720" y="2565360"/>
          <a:ext cx="223236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2565360"/>
                    <a:ext cx="22323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Oval 6"/>
          <p:cNvSpPr/>
          <p:nvPr/>
        </p:nvSpPr>
        <p:spPr>
          <a:xfrm>
            <a:off x="3995640" y="2276640"/>
            <a:ext cx="1219320" cy="1218960"/>
          </a:xfrm>
          <a:prstGeom prst="ellipse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du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1619280" y="4653000"/>
            <a:ext cx="1219320" cy="121932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H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6372360" y="4653000"/>
            <a:ext cx="1218960" cy="121932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2700360" y="3357720"/>
            <a:ext cx="144000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5148360" y="335772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2916360" y="530064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Object 13"/>
          <p:cNvGraphicFramePr/>
          <p:nvPr/>
        </p:nvGraphicFramePr>
        <p:xfrm>
          <a:off x="3780000" y="3860640"/>
          <a:ext cx="1512720" cy="115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3860640"/>
                    <a:ext cx="1512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567D-9EF7-4E2C-80C4-8722495655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642960" y="3500280"/>
            <a:ext cx="7772400" cy="175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66"/>
              </a:gs>
              <a:gs pos="50000">
                <a:srgbClr val="ffffff"/>
              </a:gs>
              <a:gs pos="100000">
                <a:srgbClr val="cc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85800" y="990720"/>
            <a:ext cx="777240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5400" spc="-1" strike="noStrike">
                <a:solidFill>
                  <a:srgbClr val="ff0000"/>
                </a:solidFill>
                <a:latin typeface="Tahoma"/>
                <a:ea typeface="Tahoma"/>
              </a:rPr>
              <a:t>Inteligencia racional</a:t>
            </a:r>
            <a:endParaRPr b="0" i="1" lang="en-US" sz="5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28760" y="3714840"/>
            <a:ext cx="82152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0000"/>
                </a:solidFill>
                <a:latin typeface="Tahoma"/>
                <a:ea typeface="Tahoma"/>
              </a:rPr>
              <a:t>Inteligencia emocion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2133-8BF0-46A0-A238-D5797F0430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14320" y="499680"/>
            <a:ext cx="7072200" cy="224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ff9900"/>
                </a:solidFill>
                <a:latin typeface="Tahoma"/>
                <a:ea typeface="Tahoma"/>
              </a:rPr>
              <a:t>Antes el éxito estaba garantizado por el invento y  el acceso a la tecnologí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784872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339933"/>
                </a:solidFill>
                <a:latin typeface="Tahoma"/>
                <a:ea typeface="Tahoma"/>
              </a:rPr>
              <a:t>...Hoy el éxito está dado por la gestión de sus RRHH como una ventaja diferen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928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fecha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r. Roberto C. Maz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5 Marcador de número de diapositiva"/>
          <p:cNvSpPr/>
          <p:nvPr/>
        </p:nvSpPr>
        <p:spPr>
          <a:xfrm>
            <a:off x="70102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ECD5-B217-47C2-847E-68DC960042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1430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0070c0"/>
                </a:solidFill>
                <a:latin typeface="Tahoma"/>
                <a:ea typeface="Tahoma"/>
              </a:rPr>
              <a:t>El TALENTOSO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3300"/>
                </a:solidFill>
                <a:latin typeface="Tahoma"/>
              </a:rPr>
              <a:t>Practica el aprendizaje permanente (de manera formal o infor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3300"/>
                </a:solidFill>
                <a:latin typeface="Tahoma"/>
              </a:rPr>
              <a:t>Persigue metas y objetivos, visual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3300"/>
                </a:solidFill>
                <a:latin typeface="Tahoma"/>
              </a:rPr>
              <a:t>Es obst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3300"/>
                </a:solidFill>
                <a:latin typeface="Tahoma"/>
              </a:rPr>
              <a:t>Está automot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3300"/>
                </a:solidFill>
                <a:latin typeface="Tahoma"/>
              </a:rPr>
              <a:t>Concilia intuición y raz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3300"/>
                </a:solidFill>
                <a:latin typeface="Tahoma"/>
              </a:rPr>
              <a:t>Tiene una mirada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3300"/>
                </a:solidFill>
                <a:latin typeface="Tahoma"/>
              </a:rPr>
              <a:t>Asume rie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3300"/>
                </a:solidFill>
                <a:latin typeface="Tahoma"/>
              </a:rPr>
              <a:t>Se adapta al est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3300"/>
                </a:solidFill>
                <a:latin typeface="Tahoma"/>
              </a:rPr>
              <a:t>Cree firmemente en su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028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Group 1029"/>
          <p:cNvGrpSpPr/>
          <p:nvPr/>
        </p:nvGrpSpPr>
        <p:grpSpPr>
          <a:xfrm>
            <a:off x="380880" y="228600"/>
            <a:ext cx="2057040" cy="1417320"/>
            <a:chOff x="380880" y="228600"/>
            <a:chExt cx="2057040" cy="1417320"/>
          </a:xfrm>
        </p:grpSpPr>
        <p:sp>
          <p:nvSpPr>
            <p:cNvPr id="234" name="Freeform 1030"/>
            <p:cNvSpPr/>
            <p:nvPr/>
          </p:nvSpPr>
          <p:spPr>
            <a:xfrm>
              <a:off x="838080" y="1117440"/>
              <a:ext cx="1599840" cy="52560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031"/>
            <p:cNvSpPr/>
            <p:nvPr/>
          </p:nvSpPr>
          <p:spPr>
            <a:xfrm>
              <a:off x="878040" y="1443960"/>
              <a:ext cx="476280" cy="2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032"/>
            <p:cNvSpPr/>
            <p:nvPr/>
          </p:nvSpPr>
          <p:spPr>
            <a:xfrm>
              <a:off x="380880" y="228600"/>
              <a:ext cx="2057040" cy="141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033"/>
            <p:cNvSpPr/>
            <p:nvPr/>
          </p:nvSpPr>
          <p:spPr>
            <a:xfrm>
              <a:off x="558720" y="364320"/>
              <a:ext cx="1617120" cy="934200"/>
            </a:xfrm>
            <a:prstGeom prst="pie">
              <a:avLst/>
            </a:pr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034"/>
            <p:cNvSpPr/>
            <p:nvPr/>
          </p:nvSpPr>
          <p:spPr>
            <a:xfrm>
              <a:off x="558720" y="477360"/>
              <a:ext cx="748080" cy="820800"/>
            </a:xfrm>
            <a:prstGeom prst="pie">
              <a:avLst/>
            </a:prstGeom>
            <a:solidFill>
              <a:srgbClr val="ddb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035"/>
            <p:cNvSpPr/>
            <p:nvPr/>
          </p:nvSpPr>
          <p:spPr>
            <a:xfrm>
              <a:off x="1103760" y="598680"/>
              <a:ext cx="47952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1036"/>
            <p:cNvSpPr/>
            <p:nvPr/>
          </p:nvSpPr>
          <p:spPr>
            <a:xfrm>
              <a:off x="1182960" y="664200"/>
              <a:ext cx="29376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1037"/>
            <p:cNvSpPr/>
            <p:nvPr/>
          </p:nvSpPr>
          <p:spPr>
            <a:xfrm>
              <a:off x="1140120" y="657000"/>
              <a:ext cx="4096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038"/>
            <p:cNvSpPr/>
            <p:nvPr/>
          </p:nvSpPr>
          <p:spPr>
            <a:xfrm>
              <a:off x="1886760" y="702360"/>
              <a:ext cx="88920" cy="16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1039"/>
            <p:cNvSpPr/>
            <p:nvPr/>
          </p:nvSpPr>
          <p:spPr>
            <a:xfrm>
              <a:off x="693720" y="738720"/>
              <a:ext cx="27144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040"/>
            <p:cNvSpPr/>
            <p:nvPr/>
          </p:nvSpPr>
          <p:spPr>
            <a:xfrm>
              <a:off x="623880" y="703800"/>
              <a:ext cx="414360" cy="17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041"/>
            <p:cNvSpPr/>
            <p:nvPr/>
          </p:nvSpPr>
          <p:spPr>
            <a:xfrm>
              <a:off x="1637640" y="717480"/>
              <a:ext cx="91800" cy="21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042"/>
            <p:cNvSpPr/>
            <p:nvPr/>
          </p:nvSpPr>
          <p:spPr>
            <a:xfrm>
              <a:off x="760320" y="775080"/>
              <a:ext cx="149400" cy="3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1043"/>
            <p:cNvSpPr/>
            <p:nvPr/>
          </p:nvSpPr>
          <p:spPr>
            <a:xfrm>
              <a:off x="1208520" y="840600"/>
              <a:ext cx="12204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1044"/>
            <p:cNvSpPr/>
            <p:nvPr/>
          </p:nvSpPr>
          <p:spPr>
            <a:xfrm>
              <a:off x="1157760" y="876960"/>
              <a:ext cx="6804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045"/>
            <p:cNvSpPr/>
            <p:nvPr/>
          </p:nvSpPr>
          <p:spPr>
            <a:xfrm>
              <a:off x="957600" y="878040"/>
              <a:ext cx="163440" cy="8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046"/>
            <p:cNvSpPr/>
            <p:nvPr/>
          </p:nvSpPr>
          <p:spPr>
            <a:xfrm>
              <a:off x="1140120" y="937800"/>
              <a:ext cx="46080" cy="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047"/>
            <p:cNvSpPr/>
            <p:nvPr/>
          </p:nvSpPr>
          <p:spPr>
            <a:xfrm>
              <a:off x="1011600" y="974160"/>
              <a:ext cx="50652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1048"/>
            <p:cNvSpPr/>
            <p:nvPr/>
          </p:nvSpPr>
          <p:spPr>
            <a:xfrm>
              <a:off x="1086120" y="991800"/>
              <a:ext cx="300240" cy="5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1049"/>
            <p:cNvSpPr/>
            <p:nvPr/>
          </p:nvSpPr>
          <p:spPr>
            <a:xfrm>
              <a:off x="1109880" y="1042200"/>
              <a:ext cx="40356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050"/>
            <p:cNvSpPr/>
            <p:nvPr/>
          </p:nvSpPr>
          <p:spPr>
            <a:xfrm>
              <a:off x="1685160" y="1143000"/>
              <a:ext cx="617760" cy="20700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1051"/>
            <p:cNvSpPr/>
            <p:nvPr/>
          </p:nvSpPr>
          <p:spPr>
            <a:xfrm>
              <a:off x="1298880" y="1375200"/>
              <a:ext cx="193680" cy="134280"/>
            </a:xfrm>
            <a:prstGeom prst="pie">
              <a:avLst/>
            </a:pr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1052"/>
            <p:cNvSpPr/>
            <p:nvPr/>
          </p:nvSpPr>
          <p:spPr>
            <a:xfrm>
              <a:off x="762120" y="752400"/>
              <a:ext cx="81000" cy="25560"/>
            </a:xfrm>
            <a:prstGeom prst="pie">
              <a:avLst/>
            </a:pr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1053"/>
            <p:cNvSpPr/>
            <p:nvPr/>
          </p:nvSpPr>
          <p:spPr>
            <a:xfrm>
              <a:off x="760320" y="746640"/>
              <a:ext cx="8424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1054"/>
            <p:cNvSpPr/>
            <p:nvPr/>
          </p:nvSpPr>
          <p:spPr>
            <a:xfrm>
              <a:off x="828720" y="758880"/>
              <a:ext cx="15840" cy="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1055"/>
            <p:cNvSpPr/>
            <p:nvPr/>
          </p:nvSpPr>
          <p:spPr>
            <a:xfrm>
              <a:off x="1317960" y="668160"/>
              <a:ext cx="79560" cy="25920"/>
            </a:xfrm>
            <a:prstGeom prst="pie">
              <a:avLst/>
            </a:pr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1056"/>
            <p:cNvSpPr/>
            <p:nvPr/>
          </p:nvSpPr>
          <p:spPr>
            <a:xfrm>
              <a:off x="1314720" y="661680"/>
              <a:ext cx="8280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1057"/>
            <p:cNvSpPr/>
            <p:nvPr/>
          </p:nvSpPr>
          <p:spPr>
            <a:xfrm>
              <a:off x="1381680" y="675000"/>
              <a:ext cx="17280" cy="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1058"/>
            <p:cNvSpPr/>
            <p:nvPr/>
          </p:nvSpPr>
          <p:spPr>
            <a:xfrm>
              <a:off x="1570680" y="1361520"/>
              <a:ext cx="314280" cy="263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1059"/>
            <p:cNvSpPr/>
            <p:nvPr/>
          </p:nvSpPr>
          <p:spPr>
            <a:xfrm>
              <a:off x="600120" y="347400"/>
              <a:ext cx="573480" cy="8712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1060"/>
            <p:cNvSpPr/>
            <p:nvPr/>
          </p:nvSpPr>
          <p:spPr>
            <a:xfrm>
              <a:off x="660600" y="335160"/>
              <a:ext cx="398160" cy="4356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061"/>
            <p:cNvSpPr/>
            <p:nvPr/>
          </p:nvSpPr>
          <p:spPr>
            <a:xfrm>
              <a:off x="1613520" y="470160"/>
              <a:ext cx="241560" cy="165600"/>
            </a:xfrm>
            <a:prstGeom prst="pie">
              <a:avLst/>
            </a:pr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Tahoma"/>
                <a:ea typeface="Tahoma"/>
              </a:rPr>
              <a:t>Innato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43040" y="485784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Tahoma"/>
                <a:ea typeface="Tahoma"/>
              </a:rPr>
              <a:t>Adquirido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Dr. Roberto Mazz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B2DC-E26A-49C5-966F-9C2CFEFF6A2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6"/>
          <p:cNvGraphicFramePr/>
          <p:nvPr/>
        </p:nvGraphicFramePr>
        <p:xfrm>
          <a:off x="2143080" y="2071800"/>
          <a:ext cx="5281560" cy="23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071800"/>
                    <a:ext cx="528156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99"/>
                </a:solidFill>
                <a:latin typeface="Tahoma"/>
                <a:ea typeface="Tahoma"/>
              </a:rPr>
              <a:t>¿Qué puedo ofrec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611280" y="2205000"/>
          <a:ext cx="223200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223200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"/>
          <p:cNvGraphicFramePr/>
          <p:nvPr/>
        </p:nvGraphicFramePr>
        <p:xfrm>
          <a:off x="3203640" y="2781360"/>
          <a:ext cx="5689440" cy="27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2781360"/>
                    <a:ext cx="56894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4:06:29Z</dcterms:created>
  <dc:creator>Windows</dc:creator>
  <dc:description/>
  <dc:language>en-US</dc:language>
  <cp:lastModifiedBy>CPCEACABA</cp:lastModifiedBy>
  <dcterms:modified xsi:type="dcterms:W3CDTF">2009-04-23T13:50:54Z</dcterms:modified>
  <cp:revision>267</cp:revision>
  <dc:subject/>
  <dc:title>COMUNICACIÓN EFICAZ</dc:title>
</cp:coreProperties>
</file>